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23E-0B46-4319-AABF-7FA4AF7B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619-46E0-4EA4-AE29-7DFAE3ED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820-1881-4EF8-9101-B8EF11DD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833-40EA-4E67-9B41-9D04A0DE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3B4-2835-4093-B9AA-69906BCB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3DB-3E3F-44CA-96FF-15591236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CE8-F2A6-43CB-BBD5-0639A521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777-728B-4026-95C2-2F22368E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BF8-93F2-4C18-A15E-A560063A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1E0-5231-4224-BA0B-EE3C4578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40D-3C28-4032-8206-2068D7D4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EC4-087B-49FB-A25A-E2755533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80DF-99F8-4D4A-9213-45EB3B065F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2880" y="2819520"/>
            <a:ext cx="724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impson’s Parado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39116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99480" y="608040"/>
            <a:ext cx="39542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9799"/>
                </a:solidFill>
                <a:latin typeface="Times New Roman"/>
              </a:rPr>
              <a:t>Simpson’s Parado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1307880" cy="60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400800" y="609480"/>
            <a:ext cx="2209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2003" b="7610"/>
          <a:stretch/>
        </p:blipFill>
        <p:spPr>
          <a:xfrm>
            <a:off x="1371600" y="1209600"/>
            <a:ext cx="64008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181" t="1552" r="3534" b="10264"/>
          <a:stretch/>
        </p:blipFill>
        <p:spPr>
          <a:xfrm>
            <a:off x="914400" y="533520"/>
            <a:ext cx="7467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353" t="1552" r="1181" b="18213"/>
          <a:stretch/>
        </p:blipFill>
        <p:spPr>
          <a:xfrm>
            <a:off x="838080" y="1143000"/>
            <a:ext cx="74678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219" t="1615" r="1219" b="7610"/>
          <a:stretch/>
        </p:blipFill>
        <p:spPr>
          <a:xfrm>
            <a:off x="914400" y="1066680"/>
            <a:ext cx="7315200" cy="4724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28240" y="5851440"/>
            <a:ext cx="71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oes home at the end of the day without buying a 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105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78120" y="471600"/>
            <a:ext cx="57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next day just as the store  ope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410" t="1602" r="1210" b="7610"/>
          <a:stretch/>
        </p:blipFill>
        <p:spPr>
          <a:xfrm>
            <a:off x="685800" y="5335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7T14:43:20Z</dcterms:modified>
  <cp:revision>219</cp:revision>
  <dc:subject/>
  <dc:title>Slide 1</dc:title>
</cp:coreProperties>
</file>